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Orfe%C3%B3n%20Donostiarra%20PIE%20JESU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8AB-312F-4ED8-AC62-F46DF577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BB7-B44D-43D0-AD05-FFAE6B45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EBB-7974-42D9-8BC1-30314432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26D-1FFF-4E66-B179-0D7EB78C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AED-5C07-4B22-AA7A-485D845E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758-A1B8-412F-9A77-03A27DE1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F42-165F-48B8-87EA-BAF2F385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89E-23FF-4124-84E7-E7B7F7C7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76D-D030-42DD-B7C8-3F651A21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C9E-3A3B-4B49-8138-5267A191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C7D-4501-41C6-97DD-9DE52E7E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984-AA31-4D41-AB56-02D3303F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CC6C-B7B7-44AE-B952-93201CB4B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rfe&#243;n%20Donostiarra%20PIE%20JESU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manifestación del Mesías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 se debe a especulaciones humanas,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no a la iniciativa div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Monotype Corsiva"/>
              </a:rPr>
              <a:t>Juan 1, 29-34. Segundo domingo Tiempo Ordinario –A-  20 de enero d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Orfe%C3%B3n%20Donostiarra%20PIE%20JESU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45720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ccecff"/>
                </a:solidFill>
                <a:latin typeface="Georgia"/>
              </a:rPr>
              <a:t>29</a:t>
            </a:r>
            <a:r>
              <a:rPr b="0" lang="en-US" sz="2000" spc="-1" strike="noStrike">
                <a:solidFill>
                  <a:srgbClr val="ccecff"/>
                </a:solidFill>
                <a:latin typeface="Georgia"/>
              </a:rPr>
              <a:t>Al día siguiente, Juan vio a Jesús, que se acercaba a él, y dijo: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Georgia"/>
              </a:rPr>
              <a:t>-Éste es el cordero de Dios, que quita el pecado del mundo. </a:t>
            </a:r>
            <a:r>
              <a:rPr b="0" lang="en-US" sz="2000" spc="-1" strike="noStrike" baseline="30000">
                <a:solidFill>
                  <a:srgbClr val="ccecff"/>
                </a:solidFill>
                <a:latin typeface="Georgia"/>
              </a:rPr>
              <a:t>30</a:t>
            </a:r>
            <a:r>
              <a:rPr b="0" lang="en-US" sz="2000" spc="-1" strike="noStrike">
                <a:solidFill>
                  <a:srgbClr val="ccecff"/>
                </a:solidFill>
                <a:latin typeface="Georgia"/>
              </a:rPr>
              <a:t>A éste me refería yo cuando dije: «Detrás de mí viene uno que ha sido colocado delante de mí, porque existía antes que yo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267080"/>
            <a:ext cx="8991720" cy="25628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Juan comunica su maravilloso descubrimiento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Nos presenta una confesión de fe en Jesús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y el anuncio de la salvación universal, que Dios va a efectuar por medio de Jesú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El compromiso irrevocable de Jesús es: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liberar e identificarse con toda la humanidad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en un espíritu de solidaridad y compa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Seguirle es comprometerse en la lucha y el esfuerzo por quitar el pecado del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mundo: la injusticia, la opresión..., todo lo que destruye la felicidad de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JESUS%20SUAVE%20primer%20pla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 mismo no lo conocía; pero la razón de mi bautismo era que él se manifestara a Israel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19720"/>
            <a:ext cx="533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Para tod@s, </a:t>
            </a:r>
            <a:br>
              <a:rPr sz="2000"/>
            </a:b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el conocimiento de Jesús es progres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¿Quién es Jesús para mí?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¿Procuro que se conozca más a Jesús, </a:t>
            </a:r>
            <a:br>
              <a:rPr sz="2000"/>
            </a:b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con mi vida y con mis palabras?.</a:t>
            </a:r>
            <a:br>
              <a:rPr sz="2000"/>
            </a:b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¿Ayuda mi vida a alguien a creer en Dio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ondo-Paloma%20Nuve%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228600"/>
            <a:ext cx="8839080" cy="192348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2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Juan prosiguió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-Yo he visto que el Espíritu bajaba desde el cielo como una palom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 permanecía sobre él.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3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o mismo no lo conocía, pero el que me envió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bautizar con agua me dijo: «Aquél sobre quien veas que baja el Espírit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y permanece sobre él, ése es quien bautizará con Espíritu Santo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Jesús es la fuente del Espíritu para la persona crey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¿Está mi bautismo “aguado” por la apatía, la rutina, la indiferencia..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¿Vivo mi bautismo de Espíritu y Fuego manifestando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el amor salvador y liberador de D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AVAR%20PIES%20chica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2819520"/>
          </a:xfrm>
          <a:prstGeom prst="rect">
            <a:avLst/>
          </a:prstGeom>
          <a:ln w="0">
            <a:noFill/>
          </a:ln>
        </p:spPr>
      </p:pic>
      <p:pic>
        <p:nvPicPr>
          <p:cNvPr id="54" name="MULETAS%20COLGADAS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22860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 como lo he visto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y testimoni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 que él 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 Hijo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899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Nuestra misión es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</a:rPr>
              <a:t>ver y mirar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 a Jesús -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“proclamar la buena nueva a los más pobres; devolver la vista a los ciegos; ayudar a andar a los cojos, liberar a los esclavos y anunciar el tiempo de gracia del Señor”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 - </a:t>
            </a:r>
            <a:br>
              <a:rPr sz="2000"/>
            </a:b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y dar testimonio, con nuestra forma de vida,</a:t>
            </a:r>
            <a:br>
              <a:rPr sz="2000"/>
            </a:b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 de su proyecto de salvación, no de conden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Cuando decimos que somos cristian@s </a:t>
            </a:r>
            <a:r>
              <a:rPr b="1" i="1" lang="es-ES" sz="2000" spc="-1" strike="noStrike">
                <a:solidFill>
                  <a:srgbClr val="000099"/>
                </a:solidFill>
                <a:latin typeface="Comic Sans MS"/>
              </a:rPr>
              <a:t>practicantes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,</a:t>
            </a:r>
            <a:br>
              <a:rPr sz="2000"/>
            </a:b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¿qué es lo que de verdad practicam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ESÚS%20cara%20cielo%20y%20refleja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20837400">
            <a:off x="457200" y="685440"/>
            <a:ext cx="150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9900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/>
                  </a:outerShdw>
                </a:effectLst>
                <a:latin typeface="Arial Black"/>
              </a:rPr>
              <a:t>JESÚ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9900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80880"/>
            <a:ext cx="56563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, Padre, por Jesús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u Hijo querido, por quien te hemos conocid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quien sabemos vivir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quien mantenemos la esperanz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quien podemos vivir como herm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porque hace muchos añ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le conocemos, le queremos, le seguim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porque es para nosotr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uz para el camino, alimento para el trabaj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peranza para el fut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porque la fuerza de tu Espíritu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e hizo Pastor, Semilla, Agua, Fuego, Pan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porque la fuerza de tu Espíritu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e hizo pobre, humilde, valeroso, compas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porque gracias a É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uestra vida de tierra se trans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nos hacemos Hijos, trabajamos en tu Rein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sabemos esperar y perdonar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, Padre, por Jesucristo, tu Hij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uestro Señor. Am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Monotype Corsiva"/>
              </a:rPr>
              <a:t>José Enrique Ruiz de Galarreta, S.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09:36:34Z</dcterms:created>
  <dc:creator> María Asun Gutiérrez</dc:creator>
  <dc:description/>
  <dc:language>en-US</dc:language>
  <cp:lastModifiedBy> </cp:lastModifiedBy>
  <dcterms:modified xsi:type="dcterms:W3CDTF">2008-01-13T10:35:37Z</dcterms:modified>
  <cp:revision>17</cp:revision>
  <dc:subject>portugalete53@wanadoo.es</dc:subject>
  <dc:title>Tiempo Ordinario II domingo -A-</dc:title>
</cp:coreProperties>
</file>