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Agnus%20Deiw.wav" ContentType="audio/x-wav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31C-69E9-4B58-9ED5-8F7C28A8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BBE-79DE-4899-A371-35990D6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CFC-F2A5-46E1-9C56-BF652F0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0E8-EA7F-44CE-BB7D-9027E533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ABC-B2BE-42ED-AC05-1564557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7FD-7CEF-42CF-B17F-361EB946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080-E1F7-423A-AB0E-2E3488C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2F4-53C8-4008-B731-F65B429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F72-A058-476E-AA62-283644C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6A8-7B99-41FE-B2E9-BACF583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042-FE62-417B-A832-2068BD3B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9AA-63DB-49EB-BB7D-230E567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3B98-6393-4726-A70C-76F25041A7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Agnus%20Dei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/indexceramcat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45080" y="0"/>
            <a:ext cx="4319280" cy="6858000"/>
            <a:chOff x="4645080" y="0"/>
            <a:chExt cx="4319280" cy="6858000"/>
          </a:xfrm>
        </p:grpSpPr>
        <p:sp>
          <p:nvSpPr>
            <p:cNvPr id="42" name=""/>
            <p:cNvSpPr/>
            <p:nvPr/>
          </p:nvSpPr>
          <p:spPr>
            <a:xfrm rot="16200000">
              <a:off x="3375720" y="1269360"/>
              <a:ext cx="6858000" cy="43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221080" y="0"/>
              <a:ext cx="3167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468360" y="3933720"/>
            <a:ext cx="3743280" cy="1800360"/>
          </a:xfrm>
          <a:prstGeom prst="rect">
            <a:avLst/>
          </a:prstGeom>
          <a:solidFill>
            <a:srgbClr val="613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jemos que nos  penetre el “Agnus Dei” del Requiem de Fauré (5’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54936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7683b"/>
                    </a:gs>
                    <a:gs pos="100000">
                      <a:srgbClr val="402341"/>
                    </a:gs>
                  </a:gsLst>
                  <a:lin ang="5400000"/>
                </a:gradFill>
                <a:latin typeface="Arial Black"/>
              </a:rPr>
              <a:t>DOMING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7683b"/>
                  </a:gs>
                  <a:gs pos="100000">
                    <a:srgbClr val="40234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6093000"/>
            <a:ext cx="6621120" cy="483840"/>
            <a:chOff x="250920" y="6093000"/>
            <a:chExt cx="6621120" cy="483840"/>
          </a:xfrm>
        </p:grpSpPr>
        <p:sp>
          <p:nvSpPr>
            <p:cNvPr id="47" name=""/>
            <p:cNvSpPr/>
            <p:nvPr/>
          </p:nvSpPr>
          <p:spPr>
            <a:xfrm>
              <a:off x="1206360" y="6093000"/>
              <a:ext cx="566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njas de Sant 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250920" y="6093000"/>
              <a:ext cx="95544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378720" y="2349360"/>
            <a:ext cx="3881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f7683b"/>
                </a:solidFill>
                <a:latin typeface="Arial Unicode MS"/>
              </a:rPr>
              <a:t>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4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836640"/>
            <a:ext cx="8137440" cy="5960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Juan dio testimonio diciendo: "He contemplado al </a:t>
            </a:r>
            <a:r>
              <a:rPr b="1" lang="en-US" sz="5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spíritu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que bajaba del cielo como una paloma, y se posó sobre él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1800">
            <a:off x="0" y="0"/>
            <a:ext cx="4824360" cy="438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24360" y="3141720"/>
            <a:ext cx="5219640" cy="420876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El Espíritu de Dios, viniendo hacia Ti, se ha puesto también encima 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de nosotro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620640"/>
            <a:ext cx="25891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lenas nuestras vi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765000"/>
            <a:ext cx="79930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o no lo conocía, pero el que me envió a bautizar con agua me dijo: "Aquél sobre quien veas bajar el Espíritu y posarse sobre él, ése es el que ha de bautizar con </a:t>
            </a:r>
            <a:r>
              <a:rPr b="1" lang="en-US" sz="4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spíritu Santo</a:t>
            </a: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6659640" cy="4718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2592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ejemos lugar al Espíri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950080"/>
            <a:ext cx="8893080" cy="68832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Un bautizo Pentecostal, UNIVERSA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1125360"/>
            <a:ext cx="7056360" cy="4665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yo lo he visto, y he dado testimonio de que éste es el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Hijo de Dios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50920" y="0"/>
            <a:ext cx="4681440" cy="6858000"/>
            <a:chOff x="250920" y="0"/>
            <a:chExt cx="4681440" cy="6858000"/>
          </a:xfrm>
        </p:grpSpPr>
        <p:sp>
          <p:nvSpPr>
            <p:cNvPr id="82" name=""/>
            <p:cNvSpPr/>
            <p:nvPr/>
          </p:nvSpPr>
          <p:spPr>
            <a:xfrm>
              <a:off x="250920" y="0"/>
              <a:ext cx="468144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11280" y="0"/>
              <a:ext cx="3959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5076720" y="333360"/>
            <a:ext cx="3673440" cy="31410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HIJO de nuestro Padre del ciel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860640"/>
            <a:ext cx="3960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Si TODOS somos hijos, ¿por qué tantas pele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476360" y="1197000"/>
            <a:ext cx="6553080" cy="4424760"/>
            <a:chOff x="1476360" y="1197000"/>
            <a:chExt cx="6553080" cy="4424760"/>
          </a:xfrm>
        </p:grpSpPr>
        <p:sp>
          <p:nvSpPr>
            <p:cNvPr id="87" name=""/>
            <p:cNvSpPr/>
            <p:nvPr/>
          </p:nvSpPr>
          <p:spPr>
            <a:xfrm>
              <a:off x="1476360" y="1197000"/>
              <a:ext cx="6553080" cy="4105080"/>
            </a:xfrm>
            <a:prstGeom prst="rect">
              <a:avLst/>
            </a:prstGeom>
            <a:gradFill rotWithShape="0">
              <a:gsLst>
                <a:gs pos="0">
                  <a:srgbClr val="d2530c"/>
                </a:gs>
                <a:gs pos="100000">
                  <a:srgbClr val="4827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8000" y="1413000"/>
              <a:ext cx="57596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Unicode MS"/>
                </a:rPr>
                <a:t>Señor, haz que con Tu Espíritu descubramos el valor de los pequeños actos de la vid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653000"/>
            <a:ext cx="8028000" cy="1099800"/>
          </a:xfrm>
          <a:prstGeom prst="rect">
            <a:avLst/>
          </a:prstGeom>
          <a:gradFill rotWithShape="0">
            <a:gsLst>
              <a:gs pos="0">
                <a:srgbClr val="d959b4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enedictinescat.com/Montserrat/indexceramca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81360"/>
            <a:ext cx="9144000" cy="314136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A-El Cordero de Dios coge nuestro m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B-Podemos ser discípulos suy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C-Con Él compartimos el Vino mej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5157720"/>
            <a:ext cx="4498920" cy="1800360"/>
          </a:xfrm>
          <a:prstGeom prst="rect">
            <a:avLst/>
          </a:prstGeom>
          <a:solidFill>
            <a:srgbClr val="d2530c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partir del Domingo III  tendremos el evangelio de Mateo durante todo 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00" y="549360"/>
            <a:ext cx="8967960" cy="19224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l domingo II empieza el CAMÍNO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con el evangelio de Juan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n los tres cic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907920"/>
            <a:ext cx="7993080" cy="5122440"/>
          </a:xfrm>
          <a:prstGeom prst="rect">
            <a:avLst/>
          </a:prstGeom>
          <a:gradFill rotWithShape="0">
            <a:gsLst>
              <a:gs pos="0">
                <a:srgbClr val="f7683b"/>
              </a:gs>
              <a:gs pos="100000">
                <a:srgbClr val="3b20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</a:rPr>
              <a:t>Hoy, presentación progresiva de Jesús: </a:t>
            </a:r>
            <a:br>
              <a:rPr sz="6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Cordero, Preexistent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manifestado a la tierr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lleno del Espíritu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HIJO de Dios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620640"/>
            <a:ext cx="7993080" cy="5960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aquel tiempo, al ver Juan a Jesús que venía hacia él, exclamó: "Éste es el </a:t>
            </a:r>
            <a:r>
              <a:rPr b="1" lang="en-US" sz="5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Cordero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 Dios, que quita el pecado del mund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5508360" cy="413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869000"/>
            <a:ext cx="4248000" cy="1785240"/>
          </a:xfrm>
          <a:prstGeom prst="rect">
            <a:avLst/>
          </a:prstGeom>
          <a:gradFill rotWithShape="0">
            <a:gsLst>
              <a:gs pos="0">
                <a:srgbClr val="d2530c"/>
              </a:gs>
              <a:gs pos="100000">
                <a:srgbClr val="331c3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l Cordero muere cargado con nuestro pecad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60280"/>
            <a:ext cx="30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sumisión nos sa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333360"/>
            <a:ext cx="788364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e es aquel de quien yo dije: "Tras de mí viene un hombre que está por delante de mí, porque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xistía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ntes que y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616720" cy="536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19640" y="549360"/>
            <a:ext cx="3600360" cy="2837160"/>
          </a:xfrm>
          <a:prstGeom prst="rect">
            <a:avLst/>
          </a:prstGeom>
          <a:solidFill>
            <a:srgbClr val="8c4c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 puedes sosten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orqué eres etern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6021360"/>
            <a:ext cx="655344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u eres el “yo” que me falta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765000"/>
            <a:ext cx="79930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o no lo conocía, pero he salido a bautizar con agua, para que sea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manifestado a Israel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52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60280"/>
            <a:ext cx="4319640" cy="31410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Has venido a mí para darme lo mejor de Ti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365720"/>
            <a:ext cx="3527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iero hacer este mismo Ca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.</cp:lastModifiedBy>
  <dcterms:modified xsi:type="dcterms:W3CDTF">2008-01-13T17:52:46Z</dcterms:modified>
  <cp:revision>508</cp:revision>
  <dc:subject/>
  <dc:title>evangelio</dc:title>
</cp:coreProperties>
</file>